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3.jpeg" ContentType="image/jpeg"/>
  <Override PartName="/ppt/media/image30.png" ContentType="image/png"/>
  <Override PartName="/ppt/media/image28.png" ContentType="image/png"/>
  <Override PartName="/ppt/media/image9.wmf" ContentType="image/x-wmf"/>
  <Override PartName="/ppt/media/image11.gif" ContentType="image/gif"/>
  <Override PartName="/ppt/media/image1.jpeg" ContentType="image/jpeg"/>
  <Override PartName="/ppt/media/image7.png" ContentType="image/png"/>
  <Override PartName="/ppt/media/image6.wmf" ContentType="image/x-wmf"/>
  <Override PartName="/ppt/media/image12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14.gif" ContentType="image/gif"/>
  <Override PartName="/ppt/media/image5.jpeg" ContentType="image/jpeg"/>
  <Override PartName="/ppt/media/image15.gif" ContentType="image/gif"/>
  <Override PartName="/ppt/media/image20.png" ContentType="image/png"/>
  <Override PartName="/ppt/media/image2.jpeg" ContentType="image/jpeg"/>
  <Override PartName="/ppt/media/image16.gif" ContentType="image/gif"/>
  <Override PartName="/ppt/media/image22.png" ContentType="image/png"/>
  <Override PartName="/ppt/media/image18.gif" ContentType="image/gif"/>
  <Override PartName="/ppt/media/image19.gif" ContentType="image/gif"/>
  <Override PartName="/ppt/media/image21.gif" ContentType="image/gif"/>
  <Override PartName="/ppt/media/image24.png" ContentType="image/png"/>
  <Override PartName="/ppt/media/image23.gif" ContentType="image/gif"/>
  <Override PartName="/ppt/media/image26.png" ContentType="image/png"/>
  <Override PartName="/ppt/media/image17.gif" ContentType="image/gif"/>
  <Override PartName="/ppt/media/image2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BCE-B797-44EB-AE6E-C488C0B1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7AD-F634-45CA-BF02-2B462B87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520-60C7-4BCE-AB64-C50F65A5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5BB-C066-4101-8C80-7A422EC8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61CE-6B8C-48E1-B064-EB6E33D5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EFDE-FB5E-4D8E-BB72-B37A8D30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D853-3E5E-44A9-AF87-F42640B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5942-2B52-427D-90C9-4174CE5F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6DF8-E98E-4C84-89B7-D1BE1AB7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271-5951-4FED-B215-7AD1C45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C7D0-75FE-4A7F-A070-49D8406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929-FB15-44AE-B439-8C2AA3A8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B67A-7DDB-4ACD-A56C-FB03383E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91C8-B4E6-4189-9347-0491F3B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7AFA-D972-48D8-8E98-9A153139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559C-E2F2-41A6-93A2-0F609B34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25E8-4A03-4E05-AE10-D84F6BB3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935-72E4-42DD-844E-C335A09C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75A-29E1-4775-92C3-68DADF57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1BF-341D-4660-81AA-68A6DDEE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ED2-1335-4DF2-A6B6-3464D727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E61-F5B6-45A1-A22F-F53EAD37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FED-B76F-4EC0-B7C9-AFB5EE0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EA1-D595-4FD8-B018-2E6DB1B3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047C-847D-41DF-90F4-D141EF004AF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1BD3-18A2-4344-8C4B-2C03CE8D9C2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18.gif"/><Relationship Id="rId19" Type="http://schemas.openxmlformats.org/officeDocument/2006/relationships/image" Target="../media/image12.png"/><Relationship Id="rId20" Type="http://schemas.openxmlformats.org/officeDocument/2006/relationships/image" Target="../media/image19.gif"/><Relationship Id="rId21" Type="http://schemas.openxmlformats.org/officeDocument/2006/relationships/image" Target="../media/image20.png"/><Relationship Id="rId22" Type="http://schemas.openxmlformats.org/officeDocument/2006/relationships/image" Target="../media/image21.gif"/><Relationship Id="rId23" Type="http://schemas.openxmlformats.org/officeDocument/2006/relationships/image" Target="../media/image22.png"/><Relationship Id="rId24" Type="http://schemas.openxmlformats.org/officeDocument/2006/relationships/image" Target="../media/image23.gif"/><Relationship Id="rId25" Type="http://schemas.openxmlformats.org/officeDocument/2006/relationships/image" Target="../media/image22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Электрическую энергию от </a:t>
            </a: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источника тока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 нужно доставить к </a:t>
            </a: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отребител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5" descr="лэп"/>
          <p:cNvPicPr/>
          <p:nvPr/>
        </p:nvPicPr>
        <p:blipFill>
          <a:blip r:embed="rId1"/>
          <a:srcRect l="6652" t="0" r="6652" b="7753"/>
          <a:stretch/>
        </p:blipFill>
        <p:spPr>
          <a:xfrm>
            <a:off x="2340000" y="1989000"/>
            <a:ext cx="4681440" cy="30956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59" name="Picture 6" descr="BMP048"/>
          <p:cNvPicPr/>
          <p:nvPr/>
        </p:nvPicPr>
        <p:blipFill>
          <a:blip r:embed="rId2"/>
          <a:stretch/>
        </p:blipFill>
        <p:spPr>
          <a:xfrm>
            <a:off x="1908000" y="5373720"/>
            <a:ext cx="1513080" cy="1290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BMP058"/>
          <p:cNvPicPr/>
          <p:nvPr/>
        </p:nvPicPr>
        <p:blipFill>
          <a:blip r:embed="rId3"/>
          <a:srcRect l="56530" t="0" r="0" b="0"/>
          <a:stretch/>
        </p:blipFill>
        <p:spPr>
          <a:xfrm>
            <a:off x="7308720" y="5084640"/>
            <a:ext cx="1619280" cy="1538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плита"/>
          <p:cNvPicPr/>
          <p:nvPr/>
        </p:nvPicPr>
        <p:blipFill>
          <a:blip r:embed="rId4"/>
          <a:stretch/>
        </p:blipFill>
        <p:spPr>
          <a:xfrm>
            <a:off x="250920" y="3645000"/>
            <a:ext cx="1428480" cy="19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эл прибор"/>
          <p:cNvPicPr/>
          <p:nvPr/>
        </p:nvPicPr>
        <p:blipFill>
          <a:blip r:embed="rId5"/>
          <a:srcRect l="-1705" t="0" r="68988" b="0"/>
          <a:stretch/>
        </p:blipFill>
        <p:spPr>
          <a:xfrm>
            <a:off x="7236000" y="3357720"/>
            <a:ext cx="1728720" cy="1420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BMP058"/>
          <p:cNvPicPr/>
          <p:nvPr/>
        </p:nvPicPr>
        <p:blipFill>
          <a:blip r:embed="rId6"/>
          <a:srcRect l="0" t="0" r="49106" b="0"/>
          <a:stretch/>
        </p:blipFill>
        <p:spPr>
          <a:xfrm>
            <a:off x="179280" y="1557360"/>
            <a:ext cx="1764000" cy="1430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эл прибор"/>
          <p:cNvPicPr/>
          <p:nvPr/>
        </p:nvPicPr>
        <p:blipFill>
          <a:blip r:embed="rId7"/>
          <a:srcRect l="33061" t="14094" r="35411" b="0"/>
          <a:stretch/>
        </p:blipFill>
        <p:spPr>
          <a:xfrm>
            <a:off x="5148360" y="5373720"/>
            <a:ext cx="1800000" cy="131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эл прибор"/>
          <p:cNvPicPr/>
          <p:nvPr/>
        </p:nvPicPr>
        <p:blipFill>
          <a:blip r:embed="rId8"/>
          <a:srcRect l="67129" t="0" r="0" b="0"/>
          <a:stretch/>
        </p:blipFill>
        <p:spPr>
          <a:xfrm>
            <a:off x="7267680" y="1484280"/>
            <a:ext cx="1876320" cy="1533600"/>
          </a:xfrm>
          <a:prstGeom prst="rect">
            <a:avLst/>
          </a:prstGeom>
          <a:ln w="0">
            <a:noFill/>
          </a:ln>
        </p:spPr>
      </p:pic>
      <p:sp>
        <p:nvSpPr>
          <p:cNvPr id="166" name="Line 13"/>
          <p:cNvSpPr/>
          <p:nvPr/>
        </p:nvSpPr>
        <p:spPr>
          <a:xfrm flipH="1">
            <a:off x="2843280" y="4941720"/>
            <a:ext cx="50472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1692000" y="4005360"/>
            <a:ext cx="934920" cy="431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1908000" y="2276640"/>
            <a:ext cx="648000" cy="288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Line 16"/>
          <p:cNvSpPr/>
          <p:nvPr/>
        </p:nvSpPr>
        <p:spPr>
          <a:xfrm flipV="1">
            <a:off x="6804000" y="2133720"/>
            <a:ext cx="576360" cy="287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6804000" y="3933720"/>
            <a:ext cx="57636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6588000" y="4724280"/>
            <a:ext cx="936720" cy="720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5580000" y="4941720"/>
            <a:ext cx="144360" cy="432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Задание 2</a:t>
            </a:r>
            <a:br>
              <a:rPr sz="4400"/>
            </a:b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Найдите и исправьте ошиб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Объект 4" descr=""/>
          <p:cNvPicPr/>
          <p:nvPr/>
        </p:nvPicPr>
        <p:blipFill>
          <a:blip r:embed="rId1"/>
          <a:srcRect l="0" t="0" r="-267" b="51707"/>
          <a:stretch/>
        </p:blipFill>
        <p:spPr>
          <a:xfrm>
            <a:off x="611280" y="2781360"/>
            <a:ext cx="2448000" cy="2592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"/>
          <p:cNvPicPr/>
          <p:nvPr/>
        </p:nvPicPr>
        <p:blipFill>
          <a:blip r:embed="rId2"/>
          <a:srcRect l="51708" t="60254" r="0" b="-4258"/>
          <a:stretch/>
        </p:blipFill>
        <p:spPr>
          <a:xfrm>
            <a:off x="4429080" y="4000680"/>
            <a:ext cx="2376360" cy="17269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"/>
          <p:cNvPicPr/>
          <p:nvPr/>
        </p:nvPicPr>
        <p:blipFill>
          <a:blip r:embed="rId3"/>
          <a:srcRect l="6704" t="8699" r="7209" b="64306"/>
          <a:stretch/>
        </p:blipFill>
        <p:spPr>
          <a:xfrm>
            <a:off x="4286160" y="2714760"/>
            <a:ext cx="25005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3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чертите схему электрической цепи, состоящей из последовательно соединенных источника тока, резистора, ключа и лампочк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68360" y="476280"/>
            <a:ext cx="842472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4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Что произойдет при замыкании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) ключа 1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)ключа 2?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) обоих ключ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Рисунок 4" descr=""/>
          <p:cNvPicPr/>
          <p:nvPr/>
        </p:nvPicPr>
        <p:blipFill>
          <a:blip r:embed="rId1"/>
          <a:stretch/>
        </p:blipFill>
        <p:spPr>
          <a:xfrm>
            <a:off x="2340000" y="3033720"/>
            <a:ext cx="4464000" cy="352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5330520" y="463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5402520" y="560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187880" y="312588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4721040" y="3127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528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Памятка по технике безопасности при работе с электрическим ток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Не используйте при сборке электрических цепей провода с повреждённой изоляцией с видимыми поврежден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Следите за исправностью всех креплений в приборах и приспособления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При сборке электрических цепей избегайте пересечения провод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Источники тока подключайте в последнюю очеред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Все исправления в цепях проводите при отключенном источнике то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Не определяйте наличие тока в цепи на ощуп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и  то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2" descr="C:\Users\Евгения\AppData\Local\Microsoft\Windows\Temporary Internet Files\Content.IE5\YVN3GKOF\MC900237282[1].wmf"/>
          <p:cNvPicPr/>
          <p:nvPr/>
        </p:nvPicPr>
        <p:blipFill>
          <a:blip r:embed="rId1"/>
          <a:stretch/>
        </p:blipFill>
        <p:spPr>
          <a:xfrm>
            <a:off x="395280" y="657360"/>
            <a:ext cx="2521080" cy="3090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Евгения\AppData\Local\Microsoft\Windows\Temporary Internet Files\Content.IE5\YVN3GKOF\MC900198837[1].wmf"/>
          <p:cNvPicPr/>
          <p:nvPr/>
        </p:nvPicPr>
        <p:blipFill>
          <a:blip r:embed="rId2"/>
          <a:stretch/>
        </p:blipFill>
        <p:spPr>
          <a:xfrm>
            <a:off x="3687840" y="738360"/>
            <a:ext cx="2706480" cy="3419280"/>
          </a:xfrm>
          <a:prstGeom prst="rect">
            <a:avLst/>
          </a:prstGeom>
          <a:ln w="0">
            <a:noFill/>
          </a:ln>
        </p:spPr>
      </p:pic>
      <p:sp>
        <p:nvSpPr>
          <p:cNvPr id="176" name="Управляющая кнопка: возврат 3"/>
          <p:cNvSpPr/>
          <p:nvPr/>
        </p:nvSpPr>
        <p:spPr>
          <a:xfrm>
            <a:off x="8388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468360" y="3860640"/>
            <a:ext cx="457200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лькуляторе, в час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й везде найдется дел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хо, если вдруг 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-то сразу се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 ответа не жалей-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же это?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4282920" y="453384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энергию храни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ним пересечет экват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ш мобильный телефо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то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79320" y="404280"/>
            <a:ext cx="79250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тока подсоединяют в цепь в последнюю очередь с помощью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единительных проводов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Управляющая кнопка: возврат 3"/>
          <p:cNvSpPr/>
          <p:nvPr/>
        </p:nvSpPr>
        <p:spPr>
          <a:xfrm>
            <a:off x="8388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3" descr="C:\Users\Евгения\AppData\Local\Microsoft\Windows\Temporary Internet Files\Content.IE5\356R3OCH\MC900279472[1].wmf"/>
          <p:cNvPicPr/>
          <p:nvPr/>
        </p:nvPicPr>
        <p:blipFill>
          <a:blip r:embed="rId1"/>
          <a:stretch/>
        </p:blipFill>
        <p:spPr>
          <a:xfrm>
            <a:off x="584280" y="2075040"/>
            <a:ext cx="8021520" cy="2997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2081160" y="4543560"/>
            <a:ext cx="48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ждом доме, и квартир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любимой вами школ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известно ва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 течет п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10920" y="260280"/>
            <a:ext cx="7924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ключател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замыкать и размыкать электрическую цеп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Управляющая кнопка: возврат 3"/>
          <p:cNvSpPr/>
          <p:nvPr/>
        </p:nvSpPr>
        <p:spPr>
          <a:xfrm>
            <a:off x="8388360" y="6197760"/>
            <a:ext cx="520560" cy="504720"/>
          </a:xfrm>
          <a:custGeom>
            <a:avLst/>
            <a:gdLst>
              <a:gd name="textAreaLeft" fmla="*/ 32400 w 520560"/>
              <a:gd name="textAreaRight" fmla="*/ 488160 w 520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2277" h="21600">
                <a:moveTo>
                  <a:pt x="0" y="0"/>
                </a:moveTo>
                <a:lnTo>
                  <a:pt x="22277" y="0"/>
                </a:lnTo>
                <a:lnTo>
                  <a:pt x="22277" y="21600"/>
                </a:lnTo>
                <a:lnTo>
                  <a:pt x="0" y="21600"/>
                </a:lnTo>
                <a:close/>
              </a:path>
              <a:path fill="lightenLess" w="22277" h="21600">
                <a:moveTo>
                  <a:pt x="0" y="0"/>
                </a:moveTo>
                <a:lnTo>
                  <a:pt x="22277" y="0"/>
                </a:lnTo>
                <a:lnTo>
                  <a:pt x="20877" y="1400"/>
                </a:lnTo>
                <a:lnTo>
                  <a:pt x="1400" y="1400"/>
                </a:lnTo>
                <a:close/>
              </a:path>
              <a:path fill="darken" w="22277" h="21600">
                <a:moveTo>
                  <a:pt x="22277" y="0"/>
                </a:moveTo>
                <a:lnTo>
                  <a:pt x="22277" y="21600"/>
                </a:lnTo>
                <a:lnTo>
                  <a:pt x="20877" y="20200"/>
                </a:lnTo>
                <a:lnTo>
                  <a:pt x="20877" y="1400"/>
                </a:lnTo>
                <a:close/>
              </a:path>
              <a:path fill="darkenLess" w="22277" h="21600">
                <a:moveTo>
                  <a:pt x="22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77" y="20200"/>
                </a:lnTo>
                <a:close/>
              </a:path>
              <a:path fill="lighten" w="22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77" h="21600">
                <a:moveTo>
                  <a:pt x="4132" y="7493"/>
                </a:moveTo>
                <a:lnTo>
                  <a:pt x="7640" y="7493"/>
                </a:lnTo>
                <a:lnTo>
                  <a:pt x="7640" y="12828"/>
                </a:lnTo>
                <a:cubicBezTo>
                  <a:pt x="7640" y="13751"/>
                  <a:pt x="8441" y="14482"/>
                  <a:pt x="9476" y="14482"/>
                </a:cubicBezTo>
                <a:lnTo>
                  <a:pt x="11139" y="14482"/>
                </a:lnTo>
                <a:cubicBezTo>
                  <a:pt x="12174" y="14482"/>
                  <a:pt x="12975" y="13751"/>
                  <a:pt x="12975" y="12828"/>
                </a:cubicBezTo>
                <a:lnTo>
                  <a:pt x="12975" y="7493"/>
                </a:lnTo>
                <a:lnTo>
                  <a:pt x="11139" y="7493"/>
                </a:lnTo>
                <a:lnTo>
                  <a:pt x="14646" y="3985"/>
                </a:lnTo>
                <a:lnTo>
                  <a:pt x="18319" y="7493"/>
                </a:lnTo>
                <a:lnTo>
                  <a:pt x="16483" y="7493"/>
                </a:lnTo>
                <a:lnTo>
                  <a:pt x="16483" y="12828"/>
                </a:lnTo>
                <a:cubicBezTo>
                  <a:pt x="16483" y="15596"/>
                  <a:pt x="13906" y="18155"/>
                  <a:pt x="11139" y="18155"/>
                </a:cubicBezTo>
                <a:lnTo>
                  <a:pt x="9476" y="18155"/>
                </a:lnTo>
                <a:cubicBezTo>
                  <a:pt x="6709" y="18155"/>
                  <a:pt x="4132" y="15596"/>
                  <a:pt x="4132" y="12828"/>
                </a:cubicBez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C:\Users\Евгения\AppData\Local\Microsoft\Windows\Temporary Internet Files\Content.IE5\YVN3GKOF\MC900349631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42920" y="1844640"/>
            <a:ext cx="2102040" cy="233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Евгения\AppData\Local\Microsoft\Windows\Temporary Internet Files\Content.IE5\VU6J1G8T\MC900281034[1].wmf"/>
          <p:cNvPicPr/>
          <p:nvPr/>
        </p:nvPicPr>
        <p:blipFill>
          <a:blip r:embed="rId2"/>
          <a:stretch/>
        </p:blipFill>
        <p:spPr>
          <a:xfrm>
            <a:off x="5292720" y="2133720"/>
            <a:ext cx="1995480" cy="32274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1"/>
          <p:cNvSpPr/>
          <p:nvPr/>
        </p:nvSpPr>
        <p:spPr>
          <a:xfrm>
            <a:off x="1979640" y="4581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замкнет любую цеп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елик он, но могуч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овит вмиг конвейер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же открывает двери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то такое?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7004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1692360" y="62064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2232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Простейшая 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электрическая</a:t>
            </a: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 цепь состоит из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826920" y="5445000"/>
            <a:ext cx="6985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Чтобы в цепи возник электрический ток, она должна быть замкнутой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2"/>
          <p:cNvSpPr/>
          <p:nvPr/>
        </p:nvSpPr>
        <p:spPr>
          <a:xfrm>
            <a:off x="1619280" y="191628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сточника то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1619280" y="2708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отребителя электроэнерг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1873800" y="3449520"/>
            <a:ext cx="49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оединительных прово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1833120" y="4314960"/>
            <a:ext cx="49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Замыкающего устрой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7" descr="703172850.gif"/>
          <p:cNvPicPr/>
          <p:nvPr/>
        </p:nvPicPr>
        <p:blipFill>
          <a:blip r:embed="rId1"/>
          <a:stretch/>
        </p:blipFill>
        <p:spPr>
          <a:xfrm>
            <a:off x="6786720" y="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904736112.jpg"/>
          <p:cNvPicPr/>
          <p:nvPr/>
        </p:nvPicPr>
        <p:blipFill>
          <a:blip r:embed="rId2"/>
          <a:stretch/>
        </p:blipFill>
        <p:spPr>
          <a:xfrm>
            <a:off x="633240" y="35388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7" descr="904736112.jpg"/>
          <p:cNvPicPr/>
          <p:nvPr/>
        </p:nvPicPr>
        <p:blipFill>
          <a:blip r:embed="rId3"/>
          <a:stretch/>
        </p:blipFill>
        <p:spPr>
          <a:xfrm>
            <a:off x="2852640" y="35388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9" descr="904736112.jpg"/>
          <p:cNvPicPr/>
          <p:nvPr/>
        </p:nvPicPr>
        <p:blipFill>
          <a:blip r:embed="rId4"/>
          <a:stretch/>
        </p:blipFill>
        <p:spPr>
          <a:xfrm>
            <a:off x="5065560" y="35388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0" descr="904736112.jpg"/>
          <p:cNvPicPr/>
          <p:nvPr/>
        </p:nvPicPr>
        <p:blipFill>
          <a:blip r:embed="rId5"/>
          <a:stretch/>
        </p:blipFill>
        <p:spPr>
          <a:xfrm>
            <a:off x="7278840" y="353880"/>
            <a:ext cx="1079280" cy="10303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1" descr="904736112.jpg"/>
          <p:cNvPicPr/>
          <p:nvPr/>
        </p:nvPicPr>
        <p:blipFill>
          <a:blip r:embed="rId6"/>
          <a:stretch/>
        </p:blipFill>
        <p:spPr>
          <a:xfrm>
            <a:off x="7564320" y="2567160"/>
            <a:ext cx="1079640" cy="10299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2" descr="904736112.jpg"/>
          <p:cNvPicPr/>
          <p:nvPr/>
        </p:nvPicPr>
        <p:blipFill>
          <a:blip r:embed="rId7"/>
          <a:stretch/>
        </p:blipFill>
        <p:spPr>
          <a:xfrm>
            <a:off x="7639200" y="5138640"/>
            <a:ext cx="1077840" cy="1030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3" descr="904736112.jpg"/>
          <p:cNvPicPr/>
          <p:nvPr/>
        </p:nvPicPr>
        <p:blipFill>
          <a:blip r:embed="rId8"/>
          <a:stretch/>
        </p:blipFill>
        <p:spPr>
          <a:xfrm>
            <a:off x="5278320" y="527832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4" descr="904736112.jpg"/>
          <p:cNvPicPr/>
          <p:nvPr/>
        </p:nvPicPr>
        <p:blipFill>
          <a:blip r:embed="rId9"/>
          <a:stretch/>
        </p:blipFill>
        <p:spPr>
          <a:xfrm>
            <a:off x="2852640" y="527832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5" descr="904736112.jpg"/>
          <p:cNvPicPr/>
          <p:nvPr/>
        </p:nvPicPr>
        <p:blipFill>
          <a:blip r:embed="rId10"/>
          <a:stretch/>
        </p:blipFill>
        <p:spPr>
          <a:xfrm>
            <a:off x="706320" y="527832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26" descr="904736112.jpg"/>
          <p:cNvPicPr/>
          <p:nvPr/>
        </p:nvPicPr>
        <p:blipFill>
          <a:blip r:embed="rId11"/>
          <a:stretch/>
        </p:blipFill>
        <p:spPr>
          <a:xfrm>
            <a:off x="493560" y="263988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7" descr="904736112.jpg"/>
          <p:cNvPicPr/>
          <p:nvPr/>
        </p:nvPicPr>
        <p:blipFill>
          <a:blip r:embed="rId12"/>
          <a:stretch/>
        </p:blipFill>
        <p:spPr>
          <a:xfrm>
            <a:off x="3992400" y="2567160"/>
            <a:ext cx="1079640" cy="1029960"/>
          </a:xfrm>
          <a:prstGeom prst="rect">
            <a:avLst/>
          </a:prstGeom>
          <a:ln w="0">
            <a:noFill/>
          </a:ln>
        </p:spPr>
      </p:pic>
      <p:grpSp>
        <p:nvGrpSpPr>
          <p:cNvPr id="208" name="Овал 28"/>
          <p:cNvGrpSpPr/>
          <p:nvPr/>
        </p:nvGrpSpPr>
        <p:grpSpPr>
          <a:xfrm>
            <a:off x="3481560" y="2077920"/>
            <a:ext cx="2249280" cy="2256120"/>
            <a:chOff x="3481560" y="2077920"/>
            <a:chExt cx="2249280" cy="2256120"/>
          </a:xfrm>
        </p:grpSpPr>
        <p:pic>
          <p:nvPicPr>
            <p:cNvPr id="209" name="Овал 28" descr=""/>
            <p:cNvPicPr/>
            <p:nvPr/>
          </p:nvPicPr>
          <p:blipFill>
            <a:blip r:embed="rId13"/>
            <a:stretch/>
          </p:blipFill>
          <p:spPr>
            <a:xfrm>
              <a:off x="3481560" y="2077920"/>
              <a:ext cx="2249280" cy="22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925800" y="2496960"/>
              <a:ext cx="136368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11" name="Picture 23" descr="mars"/>
          <p:cNvPicPr/>
          <p:nvPr/>
        </p:nvPicPr>
        <p:blipFill>
          <a:blip r:embed="rId14"/>
          <a:stretch/>
        </p:blipFill>
        <p:spPr>
          <a:xfrm>
            <a:off x="928800" y="6429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112"/>
          <p:cNvPicPr/>
          <p:nvPr/>
        </p:nvPicPr>
        <p:blipFill>
          <a:blip r:embed="rId15"/>
          <a:stretch/>
        </p:blipFill>
        <p:spPr>
          <a:xfrm>
            <a:off x="7643880" y="521496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earth"/>
          <p:cNvPicPr/>
          <p:nvPr/>
        </p:nvPicPr>
        <p:blipFill>
          <a:blip r:embed="rId16"/>
          <a:stretch/>
        </p:blipFill>
        <p:spPr>
          <a:xfrm>
            <a:off x="1214280" y="42148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2" descr="42"/>
          <p:cNvPicPr/>
          <p:nvPr/>
        </p:nvPicPr>
        <p:blipFill>
          <a:blip r:embed="rId17"/>
          <a:stretch/>
        </p:blipFill>
        <p:spPr>
          <a:xfrm>
            <a:off x="500040" y="37861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3" descr="56r2"/>
          <p:cNvPicPr/>
          <p:nvPr/>
        </p:nvPicPr>
        <p:blipFill>
          <a:blip r:embed="rId18"/>
          <a:stretch/>
        </p:blipFill>
        <p:spPr>
          <a:xfrm>
            <a:off x="9929880" y="2857680"/>
            <a:ext cx="1515960" cy="8571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6" descr="904736112.jpg"/>
          <p:cNvPicPr/>
          <p:nvPr/>
        </p:nvPicPr>
        <p:blipFill>
          <a:blip r:embed="rId19"/>
          <a:stretch/>
        </p:blipFill>
        <p:spPr>
          <a:xfrm>
            <a:off x="10137600" y="2992320"/>
            <a:ext cx="1079640" cy="10303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30" descr="14.gif"/>
          <p:cNvPicPr/>
          <p:nvPr/>
        </p:nvPicPr>
        <p:blipFill>
          <a:blip r:embed="rId20"/>
          <a:stretch/>
        </p:blipFill>
        <p:spPr>
          <a:xfrm>
            <a:off x="-2357280" y="4286160"/>
            <a:ext cx="1919160" cy="18972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3" descr="19.gif"/>
          <p:cNvPicPr/>
          <p:nvPr/>
        </p:nvPicPr>
        <p:blipFill>
          <a:blip r:embed="rId21"/>
          <a:stretch/>
        </p:blipFill>
        <p:spPr>
          <a:xfrm>
            <a:off x="7139160" y="4565520"/>
            <a:ext cx="1365120" cy="19209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8" descr="06.gif"/>
          <p:cNvPicPr/>
          <p:nvPr/>
        </p:nvPicPr>
        <p:blipFill>
          <a:blip r:embed="rId22"/>
          <a:stretch/>
        </p:blipFill>
        <p:spPr>
          <a:xfrm>
            <a:off x="1643040" y="96840"/>
            <a:ext cx="5715000" cy="6500880"/>
          </a:xfrm>
          <a:prstGeom prst="rect">
            <a:avLst/>
          </a:prstGeom>
          <a:ln w="0">
            <a:noFill/>
          </a:ln>
        </p:spPr>
      </p:pic>
      <p:pic>
        <p:nvPicPr>
          <p:cNvPr id="220" name="gibons_-_kosmicheskaya.mp3" descr=""/>
          <p:cNvPicPr/>
          <p:nvPr/>
        </p:nvPicPr>
        <p:blipFill>
          <a:blip r:embed="rId23"/>
          <a:stretch/>
        </p:blipFill>
        <p:spPr>
          <a:xfrm>
            <a:off x="8215200" y="21420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black43"/>
          <p:cNvPicPr/>
          <p:nvPr/>
        </p:nvPicPr>
        <p:blipFill>
          <a:blip r:embed="rId24"/>
          <a:stretch/>
        </p:blipFill>
        <p:spPr>
          <a:xfrm>
            <a:off x="-85680" y="0"/>
            <a:ext cx="922968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a31df44c3944ea6.mp3" descr=""/>
          <p:cNvPicPr/>
          <p:nvPr/>
        </p:nvPicPr>
        <p:blipFill>
          <a:blip r:embed="rId25"/>
          <a:stretch/>
        </p:blipFill>
        <p:spPr>
          <a:xfrm>
            <a:off x="8715240" y="63579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" nodeType="afterEffect" fill="hold" presetClass="entr" presetID="3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3" nodeType="afterEffect" fill="hold" presetClass="path" presetID="34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439 C 0.01268 -0.01757 0.03212 -0.02428 0.04757 -0.02428 C 0.07032 -0.02428 0.09237 -0.01433 0.10521 0.00231 C 0.15921 0.06821 0.20053 0.21272 0.20053 0.38451 C 0.20053 0.3852 0.20053 0.38729 0.20053 0.38798 C 0.20053 0.38729 0.20053 0.39098 0.20053 0.39145 C 0.20053 0.56278 0.15921 0.71075 0.10521 0.77665 C 0.09237 0.78983 0.07032 0.79977 0.04757 0.79977 C 0.03212 0.79977 0.01268 0.7933 0.00018 0.77965 C -0.0125 0.76694 -0.01892 0.75029 -0.01892 0.73018 C -0.01892 0.70729 -0.00937 0.68763 0.00678 0.67468 C 0.07032 0.61526 0.21007 0.57226 0.3757 0.57226 C 0.3757 0.57295 0.3783 0.57226 0.3783 0.57295 C 0.3783 0.57226 0.38178 0.57226 0.38178 0.57295 C 0.5474 0.57226 0.69063 0.61526 0.754 0.67468 C 0.76667 0.68763 0.77639 0.70729 0.77639 0.73018 C 0.77639 0.75029 0.7698 0.76694 0.7573 0.77965 C 0.74462 0.7933 0.72848 0.79977 0.70938 0.79977 C 0.68716 0.79977 0.66841 0.78983 0.65573 0.77665 C 0.59827 0.71075 0.55678 0.56278 0.55678 0.39098 C 0.55678 0.39145 0.55678 0.38729 0.55678 0.38798 C 0.55678 0.38729 0.55678 0.38451 0.55678 0.3852 C 0.55678 0.21272 0.59827 0.06821 0.65573 -0.00115 C 0.66841 -0.01433 0.68716 -0.02428 0.70938 -0.02428 C 0.72848 -0.02428 0.74462 -0.01757 0.7573 -0.00439 C 0.7698 0.00856 0.77639 0.02867 0.77639 0.04486 C 0.77639 0.06821 0.76667 0.08763 0.754 0.10428 C 0.69063 0.16023 0.5474 0.20324 0.38178 0.20324 C 0.38178 0.2037 0.38178 0.20324 0.3783 0.20324 C 0.3783 0.2037 0.3757 0.20324 0.3757 0.2037 C 0.21007 0.20324 0.07032 0.16023 0.00678 0.10428 C -0.00937 0.08763 -0.01892 0.06821 -0.01892 0.04486 C -0.01892 0.02867 -0.0125 0.00856 0.00018 -0.00439 Z">
                                      <p:cBhvr>
                                        <p:cTn id="214" dur="1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20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0296E-006 L -0.80347 2.80296E-006 L -0.80347 -0.71994 L 2.77778E-007 -0.71994 L 2.77778E-007 2.80296E-006 Z">
                                      <p:cBhvr>
                                        <p:cTn id="221" dur="10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230" nodeType="afterEffect" fill="hold" presetClass="path" presetID="2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4385E-006 C -2.77778E-007 -0.05388 0.03247 -0.09759 0.07257 -0.09759 L 0.24132 -0.09759 C 0.28142 -0.09759 0.31441 -0.05388 0.31441 -4.64385E-006 L 0.31441 0.22248 C 0.31441 0.2766 0.28142 0.32216 0.24132 0.32216 L 0.07257 0.32216 C 0.03247 0.32216 -2.77778E-007 0.2766 -2.77778E-007 0.22248 Z">
                                      <p:cBhvr>
                                        <p:cTn id="231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76000"/>
                            </p:stCondLst>
                            <p:childTnLst>
                              <p:par>
                                <p:cTn id="233" nodeType="afterEffect" fill="hold" presetClass="entr" presetID="4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7500"/>
                            </p:stCondLst>
                            <p:childTnLst>
                              <p:par>
                                <p:cTn id="24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4798E-006 C 4.16667E-006 -0.19561 -0.12969 -0.35677 -0.28889 -0.35677 C -0.47657 -0.35677 -0.5441 -0.17804 -0.57257 -0.07099 L -0.60174 0.07144 C -0.63091 0.17849 -0.70313 0.35653 -0.91511 0.35653 C -1.0507 0.35653 -1.20487 0.1963 -1.20487 2.94798E-006 C -1.20487 -0.19561 -1.0507 -0.35677 -0.91511 -0.35677 C -0.70313 -0.35677 -0.63091 -0.17804 -0.60174 -0.07099 L -0.57257 0.07144 C -0.5441 0.17849 -0.47657 0.35653 -0.28889 0.35653 C -0.12969 0.35653 4.16667E-006 0.1963 4.16667E-006 2.94798E-006 Z">
                                      <p:cBhvr>
                                        <p:cTn id="241" dur="10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87500"/>
                            </p:stCondLst>
                            <p:childTnLst>
                              <p:par>
                                <p:cTn id="243" nodeType="after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3261 L -0.62518 0.61109 L -1.25174 -0.03261 L -0.62518 -0.67885 L 0.00069 -0.03261 Z">
                                      <p:cBhvr>
                                        <p:cTn id="244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7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99500"/>
                            </p:stCondLst>
                            <p:childTnLst>
                              <p:par>
                                <p:cTn id="25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13873E-006 L 1.29063 -0.02173 E">
                                      <p:cBhvr>
                                        <p:cTn id="251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2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2500"/>
                            </p:stCondLst>
                            <p:childTnLst>
                              <p:par>
                                <p:cTn id="2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2222 -0.2837 L -0.00868 -0.27329 E">
                                      <p:cBhvr>
                                        <p:cTn id="257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7500"/>
                            </p:stCondLst>
                            <p:childTnLst>
                              <p:par>
                                <p:cTn id="2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15 -0.57873 L 1.27743 -0.58797 E">
                                      <p:cBhvr>
                                        <p:cTn id="260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105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15500"/>
                            </p:stCondLst>
                            <p:childTnLst>
                              <p:par>
                                <p:cTn id="267" nodeType="afterEffect" fill="hold" presetClass="path" presetID="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9.82659E-007 C -0.01042 -0.02774 -0.0415 -0.03838 -0.06025 -0.05271 C -0.07309 -0.06266 -0.07535 -0.06982 -0.09045 -0.08231 C -0.10851 -0.09734 -0.12813 -0.10913 -0.14601 -0.12462 C -0.15504 -0.13248 -0.16389 -0.14011 -0.17309 -0.14797 C -0.17778 -0.15214 -0.18733 -0.16046 -0.18733 -0.16046 C -0.19809 -0.18011 -0.18368 -0.15676 -0.20643 -0.17757 C -0.21077 -0.1815 -0.21354 -0.18774 -0.21736 -0.19237 C -0.22587 -0.20185 -0.23473 -0.20994 -0.24288 -0.21965 C -0.2533 -0.23214 -0.26059 -0.24786 -0.27292 -0.2578 C -0.2816 -0.27676 -0.27275 -0.26173 -0.2875 -0.27468 C -0.30452 -0.28994 -0.3165 -0.30844 -0.33663 -0.31283 C -0.35747 -0.32948 -0.37986 -0.33641 -0.4033 -0.34659 C -0.41893 -0.35352 -0.43004 -0.36208 -0.44601 -0.36555 C -0.44966 -0.36832 -0.45313 -0.37179 -0.45712 -0.3741 C -0.46163 -0.37688 -0.46684 -0.37734 -0.47136 -0.38034 C -0.47344 -0.38173 -0.47431 -0.3852 -0.47622 -0.38682 C -0.48768 -0.3956 -0.49271 -0.39491 -0.50469 -0.40162 C -0.51563 -0.40763 -0.5257 -0.41479 -0.53663 -0.42057 C -0.54288 -0.42404 -0.54948 -0.42566 -0.55556 -0.42913 C -0.58195 -0.44346 -0.60782 -0.46081 -0.63646 -0.46497 C -0.65729 -0.47745 -0.67709 -0.48763 -0.7 -0.4904 C -0.70556 -0.49526 -0.71111 -0.50011 -0.71736 -0.50312 C -0.72639 -0.5126 -0.73056 -0.51815 -0.74132 -0.52416 C -0.75452 -0.53919 -0.76806 -0.55514 -0.77778 -0.57479 C -0.78004 -0.57919 -0.78056 -0.58497 -0.78247 -0.58959 C -0.7875 -0.60208 -0.79427 -0.61549 -0.80157 -0.62566 C -0.7941 -0.64601 -0.80035 -0.63838 -0.77778 -0.63838 C -0.73386 -0.64508 -0.69167 -0.65988 -0.64757 -0.66358 C -0.63334 -0.66289 -0.61893 -0.66312 -0.60469 -0.6615 C -0.58507 -0.65919 -0.56615 -0.65086 -0.54601 -0.64878 C -0.45417 -0.65248 -0.38976 -0.65433 -0.29705 -0.65109 C -0.25938 -0.65549 -0.22275 -0.65803 -0.18577 -0.66589 C -0.17153 -0.6652 -0.15729 -0.66358 -0.14306 -0.66358 C -0.08611 -0.66358 -0.02952 -0.68647 0.02709 -0.69318 C 0.03074 -0.69248 0.03508 -0.69364 0.0382 -0.69109 C 0.03942 -0.69017 0.03629 -0.68763 0.03473 -0.68693 C 0.03247 -0.68555 0.02709 -0.68485 0.02709 -0.68485 C 0.02223 -0.67838 0.01806 -0.66913 0.01268 -0.66358 C 0.00174 -0.65248 -0.01198 -0.63792 -0.02535 -0.6319 C -0.03854 -0.61503 -0.0283 -0.62659 -0.06181 -0.6067 C -0.06545 -0.60439 -0.06962 -0.60346 -0.07292 -0.60023 C -0.075 -0.59815 -0.07691 -0.5956 -0.07934 -0.59399 C -0.08802 -0.5882 -0.09757 -0.58497 -0.10625 -0.57919 C -0.11493 -0.56208 -0.10538 -0.57849 -0.13334 -0.55792 C -0.13993 -0.55306 -0.15243 -0.54104 -0.15243 -0.54104 C -0.15938 -0.52855 -0.16962 -0.52046 -0.17778 -0.50936 C -0.18594 -0.48716 -0.17761 -0.50474 -0.19358 -0.48601 C -0.20868 -0.46844 -0.21285 -0.43537 -0.23038 -0.42057 C -0.23334 -0.41433 -0.23698 -0.40832 -0.23959 -0.40162 C -0.24115 -0.39768 -0.2408 -0.39214 -0.24288 -0.3889 C -0.25 -0.37919 -0.25052 -0.37942 -0.25712 -0.36346 C -0.26216 -0.35144 -0.26111 -0.35029 -0.26997 -0.34242 C -0.27275 -0.32994 -0.28438 -0.32115 -0.29375 -0.31699 C -0.30886 -0.30057 -0.32657 -0.28786 -0.34288 -0.2726 C -0.35 -0.26612 -0.35486 -0.26057 -0.36354 -0.2578 C -0.36719 -0.25294 -0.37136 -0.24832 -0.37466 -0.243 C -0.37657 -0.23977 -0.37726 -0.23514 -0.37934 -0.23237 C -0.38108 -0.23052 -0.38368 -0.23098 -0.38577 -0.23029 C -0.39132 -0.22289 -0.3967 -0.21711 -0.4033 -0.21133 C -0.40469 -0.20716 -0.40556 -0.20208 -0.40799 -0.19861 C -0.41007 -0.1956 -0.4217 -0.18543 -0.42535 -0.18381 C -0.42848 -0.17965 -0.43177 -0.17526 -0.4349 -0.17109 C -0.43629 -0.16948 -0.43559 -0.1667 -0.43646 -0.16485 C -0.43768 -0.16231 -0.43976 -0.16046 -0.44132 -0.15838 C -0.44497 -0.14335 -0.44167 -0.1482 -0.44913 -0.1415 C -0.45295 -0.13179 -0.45504 -0.12716 -0.46181 -0.12046 C -0.46233 -0.11838 -0.46233 -0.1156 -0.46354 -0.11399 C -0.46476 -0.11237 -0.46684 -0.11306 -0.46823 -0.1119 C -0.47986 -0.10173 -0.4665 -0.10844 -0.47778 -0.10358 C -0.48195 -0.0978 -0.48577 -0.09248 -0.49219 -0.09086 C -0.50157 -0.08832 -0.52084 -0.08439 -0.52084 -0.08439 C -0.54827 -0.08601 -0.57934 -0.09225 -0.60625 -0.08023 C -0.60782 -0.07815 -0.6092 -0.0756 -0.61111 -0.07399 C -0.6125 -0.07283 -0.61459 -0.07306 -0.6158 -0.07167 C -0.61788 -0.06936 -0.61858 -0.0652 -0.62066 -0.06335 C -0.62483 -0.05965 -0.63021 -0.05919 -0.6349 -0.05688 C -0.63907 -0.04046 -0.65209 -0.03815 -0.66181 -0.02959 C -0.66719 -0.01896 -0.67118 -0.02266 -0.67934 -0.01896 C -0.68629 -0.00462 -0.6967 -0.00693 -0.70799 -0.00208 C -0.71459 0.01156 -0.70677 -0.00162 -0.71736 0.00648 C -0.7224 0.01018 -0.72153 0.01457 -0.72691 0.01711 C -0.73004 0.0185 -0.73334 0.0185 -0.73646 0.01919 C -0.74045 0.03515 -0.74462 0.03237 -0.75556 0.03815 C -0.75608 0.04023 -0.75712 0.0444 -0.75712 0.0444 C -0.68212 0.0481 -0.60834 0.05526 -0.53334 0.05711 C -0.49184 0.06058 -0.45122 0.0659 -0.40955 0.06359 C -0.35695 0.05596 -0.30556 0.04625 -0.25243 0.04232 C -0.19184 0.03168 -0.13073 0.02659 -0.06997 0.02127 C -0.04202 0.02729 -0.01545 0.03445 0.01112 0.04671 C 0.00782 0.03284 0.01251 0.04786 0.00313 0.03399 C 0.00052 0.03029 -0.00104 0.02544 -0.00313 0.02127 C -0.00139 0.00278 -0.0033 0.00948 5E-006 9.82659E-007 Z">
                                      <p:cBhvr>
                                        <p:cTn id="268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206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3600"/>
                            </p:stCondLst>
                            <p:childTnLst>
                              <p:par>
                                <p:cTn id="27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7" dur="3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266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20524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1643040" y="1409760"/>
            <a:ext cx="5688000" cy="5448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457200" y="130320"/>
            <a:ext cx="8229600" cy="1139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Условные обозначения  на схема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схема"/>
          <p:cNvPicPr/>
          <p:nvPr/>
        </p:nvPicPr>
        <p:blipFill>
          <a:blip r:embed="rId1"/>
          <a:stretch/>
        </p:blipFill>
        <p:spPr>
          <a:xfrm>
            <a:off x="3132000" y="3141720"/>
            <a:ext cx="5675400" cy="35272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Электрическими схемами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зываю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чертежи, на которых изображены способы соединения электрических приборов в цеп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Рисунок 6" descr=""/>
          <p:cNvPicPr/>
          <p:nvPr/>
        </p:nvPicPr>
        <p:blipFill>
          <a:blip r:embed="rId2"/>
          <a:stretch/>
        </p:blipFill>
        <p:spPr>
          <a:xfrm>
            <a:off x="108000" y="3483000"/>
            <a:ext cx="27352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1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чертите схему этой цеп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Рисунок 3" descr="http://festival.1september.ru/articles/655500/img5.jpg"/>
          <p:cNvPicPr/>
          <p:nvPr/>
        </p:nvPicPr>
        <p:blipFill>
          <a:blip r:embed="rId1"/>
          <a:stretch/>
        </p:blipFill>
        <p:spPr>
          <a:xfrm>
            <a:off x="468360" y="1557360"/>
            <a:ext cx="792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8:21:57Z</dcterms:created>
  <dc:creator>User12</dc:creator>
  <dc:description/>
  <dc:language>en-US</dc:language>
  <cp:lastModifiedBy>Физика</cp:lastModifiedBy>
  <dcterms:modified xsi:type="dcterms:W3CDTF">2019-11-28T05:19:38Z</dcterms:modified>
  <cp:revision>37</cp:revision>
  <dc:subject/>
  <dc:title>Слайд 1</dc:title>
</cp:coreProperties>
</file>